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A33A-255F-4D35-B660-7AC10BE5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8302-7088-4236-9151-420AB577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B2A-2207-4A8B-B923-EEEA808C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0F8-2B2B-433A-A05C-BEB18171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EC8-7255-48FF-A3CB-CBEDD2E1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F47-617A-44DF-9ABE-EA8491B6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66D-49F9-4968-8677-3578A7FA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E142-7E83-41CE-B4E5-CC4F2FB2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F7AA-FD46-494D-9586-CD2E3E2E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C5E-1173-47CE-9F5A-8A899C50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9F8-DD1E-4BC5-B536-F1661F35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D264-DDF5-496C-A21D-BBC3BD89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3841-FD40-46E3-B2E1-9EE694D63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comic"/>
              </a:rPr>
              <a:t>Ianchi</a:t>
            </a:r>
            <a:r>
              <a:rPr b="1" i="1" lang="ro-RO" sz="4400" spc="-1" strike="noStrike">
                <a:solidFill>
                  <a:srgbClr val="333399"/>
                </a:solidFill>
                <a:latin typeface="comic"/>
              </a:rPr>
              <a:t>Ş</a:t>
            </a:r>
            <a:r>
              <a:rPr b="1" i="1" lang="en-US" sz="4400" spc="-1" strike="noStrike">
                <a:solidFill>
                  <a:srgbClr val="333399"/>
                </a:solidFill>
                <a:latin typeface="comic"/>
              </a:rPr>
              <a:t> Claudia-Andre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Sunt din Bălan,am 17 ani,invăt  la  Liceul Teoretic I.Agîrbiceanu.Am  ales  acest liceu ,deoarece imi  plac   limbile  straine,istoria si  literatura,motiv pentru  care  sunt  la  profil um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În ceea ce priveşte viitorul,pot  spune ca  mi-ar plăcea  să urmez facultatea  de  drept,în  Cluj pentru  că îmi  place  să  socializez,să  apăr dreptatea,   dar   şi  să  pot  să-mi exprim  cu tărie punctul  de  ved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Mă  consider  o  persoană ambiţioasă ,responsabilă   si cu multă  forţa  de muncă!Îmi  place să-mi peterc  timpul liber  alături  de  prietenii  mei   ,să  citesc,să  ascul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z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ic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28:39Z</dcterms:created>
  <dc:creator> </dc:creator>
  <dc:description/>
  <dc:language>en-US</dc:language>
  <cp:lastModifiedBy> </cp:lastModifiedBy>
  <dcterms:modified xsi:type="dcterms:W3CDTF">2011-10-07T09:16:49Z</dcterms:modified>
  <cp:revision>3</cp:revision>
  <dc:subject/>
  <dc:title>Ianchi Claudia-Andreea</dc:title>
</cp:coreProperties>
</file>